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oin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16B-F2C9-462B-9121-3EE14E0A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400-791B-4A14-94B8-32B0B266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FAC-DE3E-4D28-8F3F-35AB51A4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3AB-98B8-4E1F-8174-BD197D7E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49C-4F06-4115-B5EA-3EAF4108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768-3371-4F00-828E-93BD41A6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E5E-6506-41B8-BDCF-DE1FD486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BBF-1995-4ABC-9928-7124F2A4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2B7-D5C8-42AB-8B1E-A7F31173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C42-041C-4012-8175-4A023776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B46-8838-4F8F-B5AE-68AF06D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631-3746-4F24-BC27-C100E77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76E7-05C6-4F70-BCE9-21085AC2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23:07:27Z</dcterms:created>
  <dc:creator>ULearn</dc:creator>
  <dc:description/>
  <dc:language>en-US</dc:language>
  <cp:lastModifiedBy>ULearn</cp:lastModifiedBy>
  <dcterms:modified xsi:type="dcterms:W3CDTF">2008-10-02T23:11:01Z</dcterms:modified>
  <cp:revision>2</cp:revision>
  <dc:subject/>
  <dc:title>Slide 1</dc:title>
</cp:coreProperties>
</file>